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D69-B437-448D-AB91-C3749845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815-B9E2-4360-A570-ECF636A5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F77-1B24-42CD-B916-1014230B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546-7368-4DB4-A658-F3A9B935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086-760A-4C64-9A7A-BB9126D3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5EC-ED24-419C-80C3-ADDDFDC8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756-7D56-4296-96BF-3A832B93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03D-3AA9-40C5-8D17-41C3E31F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4C4-EFEC-4123-A3FD-B9A71B6B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0C7-E2B9-489F-8344-5D0E70D3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47E-955E-49F1-8760-BD339D2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820-0C1C-4B6D-8A80-C64221B4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04D2-BEDA-4A82-BAFB-E3EF5371B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vesque1_med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42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0"/>
            <a:ext cx="36576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َ يا روحَ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سكن فينا للدو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حياةُ قلبِ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ِّسنا لِنَتَّحِد ب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لم تعال يا أبَ الفق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ضرمنا بنار حبِّ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9:23Z</dcterms:modified>
  <cp:revision>10</cp:revision>
  <dc:subject/>
  <dc:title>PowerPoint Presentation</dc:title>
</cp:coreProperties>
</file>